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DCFC-D43F-485F-B827-A178F9C0B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2D50-E8E5-4A2E-ACAA-B1302FC49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0DF0-8AAB-4C58-8FEC-1F272D14E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6532-A391-4DF1-B2CF-DC444BAB4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2FF0-5DC7-4B2A-B079-DFF48914D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EDDE-B6F9-4415-B5AB-18A04056B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4F5E-9DD7-4891-93B4-B70DE35FF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DD6C-4A34-49B2-BB95-897DB8C9F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439F-3BBE-4E91-AC22-B510F355C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08D1-C881-481E-B302-25FDCD19A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472C-174F-4F9B-A262-BD270699C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E992-261C-47F2-BA45-82A1FDEE3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0687-E9F0-4A73-A26E-3141EF1DF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93C2-FCA0-4A06-A463-4C14D3582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037BC-B6AD-4BDD-8869-CD4156410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9EE04-7BEF-41B6-BC69-745F198B37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E22C9-5201-4FB2-AAC3-22EC740F0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5828C-6F5F-4A25-A686-4D25A78FB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ADA0-AE93-45D8-B87A-6EBC8DFE86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59B9-BD54-4AAD-87AD-5858D7A83A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FB5E-390D-4FCF-999E-BC1DC0C484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E8DB-7F70-446D-AAEE-D8CB19BBE9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CED7-0557-45D1-9D2D-3255AD7B21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0D0C-6FC8-4262-8FD3-DFB52D960C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F807-5980-41A3-A54A-74E249580C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8E34F-FA8F-494E-B32F-29122BF763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0DA6-3925-4B9E-8752-52B78CE890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BDE7-DF47-4927-A16A-3974D020C3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163D-FA2E-4A51-BC18-E1296B14F3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3D12-84C1-4170-A87A-8F9F18AD6B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7733-D894-4D20-A284-A81490A7E1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CBCE0-EF5E-4E4F-A472-BA8353808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CFC41-DE45-429C-8AA7-34FBF6DE8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277BB-3947-4D9B-B6C1-C9EEB30BE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C27B5-3599-475D-9B5E-47AFD43C2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2C120-14A8-4C4E-9D36-200772F3F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2CA01-709F-4795-B66A-E2467FF3F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72CBF-D492-46C0-9815-A45970F6A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83D7-490F-4D77-80E6-F3BA1EC897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581D-9128-4CED-B769-8585063191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1E32-E24A-458C-932C-AE5CBC8019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Verdana"/>
              </a:rPr>
              <a:t>Projet d’Organisation d’EEQ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DCEE-0FBC-4462-AB34-9CBBF1EC41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érêts du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ts et objec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ègles de confidenti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end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4977-5660-4FFC-A3FE-6F8D92A259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ntrô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, rétro-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ôle de “référence” du fournisseur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 et recommandations des laboratoires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ésoudre les 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ecommander certaine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44024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3505320" y="4343400"/>
            <a:ext cx="5105160" cy="202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  <a:ea typeface="SimSun"/>
              </a:rPr>
              <a:t>On est jamais trop parfa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1EAF-C3C0-479E-862F-B50FC1F209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déjà contrôlé par un organisateur international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mpliquer les autor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s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e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du matériel non contam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ar une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une bonne stratégie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attentif aux commen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85800" y="1219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  <a:ea typeface="SimSun"/>
              </a:rPr>
              <a:t>Commencer un programme d’EEQ au niveau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Résum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EF9F-F140-4ACF-9CC9-55BA91AEEB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04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1A50-A840-4EFC-A92E-67C07D3A7D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Options d’E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jet national de 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eau de laboratoire –comparaisons/recontrôle inter laborato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+/- évaluations s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8116-81D8-4014-B4AA-FF61DFDD57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Avant la participation (et le succès !) dans un programme 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SimSun"/>
              </a:rPr>
              <a:t>Souscription à un programme extérieu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trôle sa propr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ératif et oblig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une question de conf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B54E-626A-4299-88F7-5CE0FD1253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arantit la </a:t>
            </a:r>
            <a:r>
              <a:rPr b="0" lang="fr-FR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ttaché au mandat des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oyen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n liaison avec les activités de licence / certification / accréditation / règlements nat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finance (les activités d’EEQ permettent des économies,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es financer en vaut la pe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3894120"/>
            <a:ext cx="1752480" cy="1582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Impliquer les autori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6BB9-29FF-46C1-8D74-BFAEC94B30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si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Test de capac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, colorées ou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loration de 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germes acido-alcoolo rési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 souches bactérie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icro organismes entériques (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econtrô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 (TB, Gram, LCR, aut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ouches bactériennes si matériel et capacité techniques présent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 souches d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6934320" y="2286000"/>
            <a:ext cx="198108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5715000" y="2666880"/>
            <a:ext cx="914400" cy="45720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B3B2-1324-485D-BCA8-809A5650EC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pe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etit nombre de laborato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gion pil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Vérifier les options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ires pour une analyse (en dehors du program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remière étude avec du matériel basique (l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ires pour la première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3 éléments par envoi (minimum 2 par 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6553080" y="304920"/>
            <a:ext cx="2151360" cy="2590560"/>
            <a:chOff x="6553080" y="304920"/>
            <a:chExt cx="2151360" cy="2590560"/>
          </a:xfrm>
        </p:grpSpPr>
        <p:pic>
          <p:nvPicPr>
            <p:cNvPr id="136" name="Picture 6" descr="j0278576"/>
            <p:cNvPicPr/>
            <p:nvPr/>
          </p:nvPicPr>
          <p:blipFill>
            <a:blip r:embed="rId1"/>
            <a:stretch/>
          </p:blipFill>
          <p:spPr>
            <a:xfrm>
              <a:off x="6553080" y="304920"/>
              <a:ext cx="215136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8"/>
            <p:cNvSpPr/>
            <p:nvPr/>
          </p:nvSpPr>
          <p:spPr>
            <a:xfrm rot="19759200">
              <a:off x="7238880" y="914040"/>
              <a:ext cx="914400" cy="53316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F913-BE3B-4C10-A354-FC2F13C69F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  <a:ea typeface="SimSun"/>
              </a:rPr>
              <a:t>Commencer par du matériel non contami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 début, éviter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agent pathogène “dangereu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érums contami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uivre les loi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F5AA-866B-4510-99E2-B351F79768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Besoins matéri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re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tit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util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nhls2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42F4-EDBC-4812-B795-A121544CBF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aboratoires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ociétés scient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ssociations profess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res parties prenantes intéressés par l’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685800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« EEQ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dolmazonv</cp:lastModifiedBy>
  <dcterms:modified xsi:type="dcterms:W3CDTF">2010-04-08T14:45:04Z</dcterms:modified>
  <cp:revision>20</cp:revision>
  <dc:subject/>
  <dc:title>EQA scheme Organization optional</dc:title>
</cp:coreProperties>
</file>